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5.png" ContentType="image/pn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BE21-DD73-43F0-AA96-0B495DACD23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5AD-336E-4838-B905-23B0E29D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1F8-0F12-4B87-80A8-961979DB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672-0F9C-4946-B856-7AFE958F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B8E-C887-43B8-9F1E-5036CA32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2E4-86CC-45BF-B542-98536E41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C000-88D2-4088-BBFA-EC4C4C0E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4DF1-25F6-474D-8E62-52809813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69E9-F863-431A-A0C7-37343B97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B0D9-6B26-42DC-AF60-8D5A55C8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C85F-43DB-43E6-AC00-048F64BC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7FB-B221-4D01-BD47-6B184294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477A-1C70-4242-9237-55026639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2EBB-7D9D-45CA-841E-6B1F8F54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9662-9117-4269-9330-204FBBE8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4362-C980-41D9-A4B9-77EADE87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7E3E-010A-44ED-8A10-2FC74DC0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5B01-1BC4-4DAF-8B3B-B844857E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F025-5BC8-41C9-8CE9-935C7CF3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7AA28-D1B0-49AA-AE13-ACC7A6DE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8DC32-DA25-4C3D-B4DC-81108586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FD026-FAD7-4A42-B9AD-2D709D13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168-2144-4B37-AE54-32303A89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38AC7-ACC8-493F-8CA3-11830BC0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F41BF-F05E-45AA-B274-24D84239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DC2FD-DF53-43A1-A435-4A6BF1A5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ABB7F-032F-41D0-AEB4-6A60FCA4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B0743-EF38-4DF7-AB4F-8DF1F42F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2E04F-163E-4717-B59A-4FFD235A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EE33-27E0-48C1-8AAB-4E242570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84A33-7046-4F1F-91F7-B74EF181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9B91-E337-48EF-9D82-76233D5E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292-AF10-4FBC-A04E-8476F2BF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2A0-B00F-48DD-AEFD-C91602D1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93E-4E04-4D21-8C4C-706E7BB6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992-49DB-44EB-B559-01E89523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972-DFA5-4D93-AF1F-BAD5D477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508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e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56636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3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3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03560" y="613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18920" y="6130440"/>
            <a:ext cx="475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78920" y="6135840"/>
            <a:ext cx="684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2C43-8083-493B-BFF0-F8804F6756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160" y="1983960"/>
            <a:ext cx="8999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D130-C9A5-4035-9B25-2E9250772996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8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9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324F-9313-4AFF-940D-0459B35A892D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7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63640" y="836640"/>
            <a:ext cx="5400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面包发霉了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124000" y="2781360"/>
            <a:ext cx="6804000" cy="4076640"/>
            <a:chOff x="2124000" y="2781360"/>
            <a:chExt cx="6804000" cy="407664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2124000" y="2781360"/>
              <a:ext cx="392436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 txBox="1"/>
            <p:nvPr/>
          </p:nvSpPr>
          <p:spPr>
            <a:xfrm>
              <a:off x="5508720" y="6568920"/>
              <a:ext cx="34192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1" strike="noStrike">
                  <a:ln w="0">
                    <a:noFill/>
                  </a:ln>
                  <a:solidFill>
                    <a:srgbClr val="80008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建德市新安江第一小学 秦爱军</a:t>
              </a:r>
              <a:endParaRPr b="0" lang="en-US" sz="1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981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观察发霉的面包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77336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直接观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2449440"/>
            <a:ext cx="3168720" cy="2536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00720" y="2538360"/>
            <a:ext cx="4248000" cy="2554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26920" y="544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原来面包上长了许多霉菌。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）、用放大镜和显微镜观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1268280"/>
            <a:ext cx="3311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148360" cy="411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92720" y="1052640"/>
            <a:ext cx="3263760" cy="4537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84360" y="5300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霉菌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5661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菌丝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88760" y="1197000"/>
            <a:ext cx="1155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ahoma"/>
              </a:rPr>
              <a:t>孢子囊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17622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32440" y="4941720"/>
            <a:ext cx="459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92800" y="5013360"/>
            <a:ext cx="459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524720" y="4797360"/>
            <a:ext cx="0" cy="1008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176220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18334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732360" y="1916280"/>
            <a:ext cx="18716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23736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我们还在什么物品上看到过霉菌</a:t>
            </a:r>
            <a:r>
              <a:rPr b="0" lang="zh-CN" sz="3200" spc="-1" strike="noStrike">
                <a:solidFill>
                  <a:srgbClr val="cc0000"/>
                </a:solidFill>
                <a:latin typeface="Tahoma"/>
              </a:rPr>
              <a:t>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50920" y="333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）、哪一块面包上的霉菌生长得快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12536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实验：（四块面包，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用牙签在每块面包上放一些霉菌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2637000"/>
            <a:ext cx="856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使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第一块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面包保持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干燥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，在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第二块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面包上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滴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滴水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，分别装在两个塑料袋里，用线扎紧袋口后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放在桌上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195640" y="4437000"/>
            <a:ext cx="2303280" cy="2216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2143080" cy="230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1253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在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三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和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四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上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都滴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滴水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，也分别装在两个塑料袋里，并扎紧袋口。然后，把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三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放进冰箱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，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四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放到温度较高的地方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68360" y="3789360"/>
            <a:ext cx="6234120" cy="3068640"/>
            <a:chOff x="2268360" y="3789360"/>
            <a:chExt cx="6234120" cy="306864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2268360" y="3789360"/>
              <a:ext cx="317664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5435640" y="3790800"/>
              <a:ext cx="3066840" cy="306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5640" y="460440"/>
            <a:ext cx="7920000" cy="639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360" y="404640"/>
            <a:ext cx="244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讨论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9280" y="1700280"/>
            <a:ext cx="83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r>
              <a:rPr b="0" lang="zh-CN" sz="32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这两组面包中，哪一块面包上的霉菌生长得快？</a:t>
            </a:r>
            <a:endParaRPr b="0" lang="en-US" sz="32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3213000"/>
            <a:ext cx="705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研究光对霉菌生长的影响</a:t>
            </a:r>
            <a:endParaRPr b="0" lang="en-US" sz="18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5445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面包等食物放久了有的要长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霉菌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霉菌生长需要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湿润、温暖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的环境，也需要获取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营养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。</a:t>
            </a: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258920" y="260280"/>
            <a:ext cx="237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考考你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57160" cy="1874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332000" y="3933720"/>
            <a:ext cx="7667640" cy="1618560"/>
          </a:xfrm>
          <a:prstGeom prst="rect">
            <a:avLst/>
          </a:prstGeom>
          <a:solidFill>
            <a:srgbClr val="1ebde1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判断题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1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食物在保存的过程中也会发生变化。（ 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2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食物在霉变过程中产生的霉菌含有对人体有害的物质。（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3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已经发霉的食物，扔掉可惜，洗一洗就可以吃了。（ 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4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我们把第一块面包放在干燥、常温的地方，把第二块面包放在潮湿常温的地方，是为了研究水分对霉菌生长速度的影响。（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1341360"/>
            <a:ext cx="7885080" cy="1130400"/>
          </a:xfrm>
          <a:prstGeom prst="rect">
            <a:avLst/>
          </a:prstGeom>
          <a:solidFill>
            <a:srgbClr val="1ebde1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填空：</a:t>
            </a:r>
            <a:endParaRPr b="0" lang="en-US" sz="2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面包发霉是因为在它的上面生长了一种生物——（     ），与其他生物一样，它的生长需要获取（      ）和适宜的（         ）。因为霉变过程中产生的（         ）含有对人体有害的物质，所以发霉变质的食物是绝对（      ）食用的。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116000" y="1268280"/>
            <a:ext cx="7380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想一想，除了面包以外，还有哪些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食物在存放过程中会变质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3:24:56Z</dcterms:created>
  <dc:creator>雨林木风</dc:creator>
  <dc:description/>
  <dc:language>en-US</dc:language>
  <cp:lastModifiedBy>微软用户</cp:lastModifiedBy>
  <dcterms:modified xsi:type="dcterms:W3CDTF">2010-02-19T10:24:44Z</dcterms:modified>
  <cp:revision>11</cp:revision>
  <dc:subject/>
  <dc:title>幻灯片 1</dc:title>
</cp:coreProperties>
</file>